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F50-AC2B-428B-9609-E858473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A44-4E5F-4A3A-8E87-3C0A6535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41FAE-BEA0-42E5-8944-330E5286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C6D6D-480E-411E-869E-0E4B4249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C5C1F-D95B-4FA9-933C-A146E08F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801E-D8BE-436D-A720-407140C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2BDF5-8E77-4775-A091-70B3CBE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60735-3AF8-4C35-971B-8BA2D966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254D0-1C8A-4E2C-800E-470D779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BDAEF-1A89-4438-8344-18ED1C20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F21CE-B921-4178-B048-F4ED9009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80078-16F0-4923-9B99-96321A7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97A-A280-485A-8941-FCB3C595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8D2FE-74DA-42D4-A527-F37AC4F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6DCED-1480-4F16-8DFB-F2259102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BABC7-7C3B-4DDC-86D0-A6B0822F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7FA8-A67D-4983-BFCA-B0B85E47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F2D38-266E-4392-B42D-4563761A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9CF8A-95E6-4C39-81FB-5C824ED4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8B17A-E10E-4D27-9826-3830E52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A0007-AA7A-4933-8E2F-C4B8A01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BF75D-1081-4B09-91E0-2FF3E02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EFD15-A464-4F97-B675-3C9893BB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99F-F4F8-4E98-ADB2-E84A19F7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B347E-DBC0-4190-9923-7F6AE04C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3D1A4-77DE-427A-916D-BE22B5F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00CBB-D977-4D68-AB37-796E7CB0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FDF14-C599-4867-B23E-70A171F2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4F691-02C8-4460-B3DD-7BFD3EA1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C4FC-97DE-4FBD-AF41-6B58203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79AC-7939-4199-812B-BD4483F1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19262-419B-4DAE-9139-38A85E1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E6100-C9DA-43B8-B2E9-9E6078F6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1FC0-A123-4151-AE1A-5139ED3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E45-DC4E-4F76-8D45-3117308A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423DC-AB21-4F7C-87F4-99791D32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B005A-3D57-4BEC-9FC0-E75C258B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047F-C67A-4E0F-8DC9-1BED4ADB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989-C841-4C96-85AB-FEF86A9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3E0-C19C-46D8-A207-CAD91EC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5451-9DD2-4731-9D8D-BF04E164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8865-2E6D-430D-85EF-E5567B4C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653-9570-4932-BFB3-DC4BB77B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74B9-CE38-4CC4-927C-D6196E9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1F6-109C-4F18-9379-3A09FF9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F86-44ED-41F3-9151-9AEDB18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1E0A-9F50-4717-A5EF-01DC6CD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BB4-BE8C-4842-B140-FBFB1B8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996-D6DC-4975-BBBC-09697814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C1C3-74AF-4CB1-9383-75FCDD46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099B-E640-4F8A-A418-7BC2A9B1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1BD4-F1FF-4E14-946A-B4E62174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7441-2A8B-4CB9-9A1B-5EC1CA94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25477-CE4F-4DF9-B86C-7485453D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3592-1F42-4A60-B233-1560365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3AA-8893-4C68-BCF4-5690F4A2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EF68-E47A-4731-8E45-E2DCCA5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AD099-8955-4A11-BDDD-103A15FB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4049A-A325-49C5-B47F-B0177426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1246-717E-40E2-9211-41729BF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416F-7617-4E33-BD5A-7F59F95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2F3F-6A24-43F6-ADE9-EB891CA7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4482-D418-4E9D-A29D-C4A5B24D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8E86-5AB2-4BA1-82E2-A96A2F25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F7E9-2D1C-473E-8E9F-0FD8682A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F065-210C-4A06-8F1F-FA47EA75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16D-146A-42F2-820E-10C2925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36D3-5A39-4AA9-8780-2EDD792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E3A0-38B2-4B08-A25F-9F53B22C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0D27-8633-4958-8C09-E79D15D1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1524-66F0-4C29-B20C-C5015BF1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EF71-4F6B-4796-A9E3-4EAC4C16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9B90-E38D-433B-81EF-707FFDB6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2BB1-831A-4CCF-98AB-9E0340B0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FF91-5840-425B-8BBA-07CB5B0F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D93A-650E-4543-BA75-C914FFE9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96EB-E437-4016-8B93-FCBE40F1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DAA-047D-4EC2-9C93-1F77DAE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F2DE-0423-4011-BB7B-7621AC4F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CD97-31B1-41C0-8780-2557F79A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1337-A4D1-40FF-A760-7481FC2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9B44-0A99-4488-AA03-B816D339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B0274-3487-4E19-A01B-96C1A65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4C9D-2CBF-4A29-A3AF-63EE886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E9C5-BE6B-45D4-92C9-3BB4B71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C3AB-CA99-42FC-9381-6837747F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068B2-782E-45E1-83A4-6AC8F40F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6E16-5E31-48EE-A36F-F7236701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9C4-79DB-4EBC-A373-BFCF0295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DDDA-220E-47AF-A243-A5D4F47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ACBA-901F-44D5-8021-6AE6FB3B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668E4-CDA3-43FC-BEE4-EE76D2F5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145DD-95CA-4A8A-A8A3-6A74486C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551B-FC26-4490-95FF-783D9163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674C-AA86-434E-B048-4A867220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C5E45-CAE7-44B8-A2A3-90BA241D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DE474-7F62-4A0D-95C5-6FCA1C0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E105-217B-4C17-B5BA-8D4CAFD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8FC4-F541-4F52-9C1C-5DB1B9BA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C12-B3D4-4E5B-BB48-6AB9A933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2E35-4F84-4E28-9A63-2D52001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1C0B-DAB4-4F5B-A358-C727CD6E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5CF8-3B22-45E3-92E4-AEC438BD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2B4B-6339-475B-9C63-F188EF8C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575F5-BEAE-4B7D-8741-53A58477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A0FB-C99F-42A3-934D-82D401B5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09B60-7559-4329-832B-796DB22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FBFCE-F22F-4109-9FA2-10461DB7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3049-8D21-4813-9708-29BFBFFC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49EA6-B9ED-488E-80BD-6CBA1CC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532-ABCF-4D45-9153-FD8A4B10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C3AF1-9581-4DA6-82FB-47F002E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6462-5667-49F2-A23C-CFDA880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9DC32-BDC5-4789-9CF3-193EFC1F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057A7-E2AC-4348-99EE-AA061BE1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216E-77C4-491B-8CD2-56DDAA69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8948F-1FD2-4342-972B-61F2A6A1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E1F42-1DB6-4A03-9C59-AED80045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E136-A79A-4541-B03C-C4076256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F40A-D730-42E3-968A-19197A85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1AE07-556A-463A-A99F-11BAACAA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CEF-FCE5-40F0-B819-B12F19B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94EB-DEFD-4674-93C6-0FF52B3B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C3D97-EAC1-41E9-83A0-5F70A20D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C953E-6AFF-49D1-A5F2-B620207B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B747-EC9E-4B21-BCC2-674AFF43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CA3A4-CD0B-4D1E-A5C3-BB8B5FA8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D5491-8E45-43D7-994D-1B3E05B4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16904-69DC-4763-BEF5-FD810254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5801-05FA-4EDC-9144-875203AA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72F6-91CB-4F43-AA6C-25150DAD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674B0-4235-416B-956E-F6DB4435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8A102F-AB50-4003-A296-915682C89B53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A6566F-4485-4DEC-B5B1-FAED0098D906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8628D2-D173-47D4-8DE6-E877A273A9A8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4DB849-3A2F-401E-957C-B13EFAF33BD6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F1F5C7-0231-448A-9FD9-0961A6E7EC12}" type="slidenum">
              <a:rPr b="0" lang="ru-RU" sz="13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2C5BB8-A8C9-440A-8B7B-538B16E7D7BA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DA1373-597D-46C5-AA41-D093B2E6566D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5C1E8A-A0FE-46AF-B750-9FF68C09FCA1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3E62B4-C089-4EC6-8F3E-4DA4F4BCF7F9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02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8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6480"/>
                <a:ext cx="1010268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2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1A6661-9020-49AC-8337-D92DDEAE107D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373E4F-03D9-4063-A59B-BF6ABD6D1734}" type="slidenum">
              <a:rPr b="0" lang="ru-RU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754080" y="922320"/>
            <a:ext cx="21430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20160" tIns="50400" bIns="50400" anchor="t">
            <a:no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Прямая соединительная линия 4"/>
          <p:cNvSpPr/>
          <p:nvPr/>
        </p:nvSpPr>
        <p:spPr>
          <a:xfrm flipH="1">
            <a:off x="4397040" y="35647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одзаголовок 2"/>
          <p:cNvSpPr/>
          <p:nvPr/>
        </p:nvSpPr>
        <p:spPr>
          <a:xfrm>
            <a:off x="5969160" y="2351160"/>
            <a:ext cx="43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ru-RU" sz="12000" spc="-1" strike="noStrike">
                <a:solidFill>
                  <a:srgbClr val="000000"/>
                </a:solidFill>
                <a:latin typeface="Constantia"/>
              </a:rPr>
              <a:t>ЁМ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03280" y="1692360"/>
            <a:ext cx="37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Line 636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0" name="Rectangle 717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0" y="0"/>
          <a:ext cx="10080720" cy="7556400"/>
        </p:xfrm>
        <a:graphic>
          <a:graphicData uri="http://schemas.openxmlformats.org/drawingml/2006/table">
            <a:tbl>
              <a:tblPr/>
              <a:tblGrid>
                <a:gridCol w="1338120"/>
                <a:gridCol w="1459080"/>
                <a:gridCol w="1455840"/>
                <a:gridCol w="1457280"/>
                <a:gridCol w="1455480"/>
                <a:gridCol w="1459080"/>
                <a:gridCol w="1455840"/>
              </a:tblGrid>
              <a:tr h="75564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6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57120" y="1241280"/>
          <a:ext cx="9723600" cy="57150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16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0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15880" y="-902520"/>
            <a:ext cx="856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75760" y="446040"/>
            <a:ext cx="9804600" cy="71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Line 4"/>
          <p:cNvSpPr/>
          <p:nvPr/>
        </p:nvSpPr>
        <p:spPr>
          <a:xfrm>
            <a:off x="1209600" y="139680"/>
            <a:ext cx="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-50040" bIns="-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357120" y="1241280"/>
          <a:ext cx="9723600" cy="5731200"/>
        </p:xfrm>
        <a:graphic>
          <a:graphicData uri="http://schemas.openxmlformats.org/drawingml/2006/table">
            <a:tbl>
              <a:tblPr/>
              <a:tblGrid>
                <a:gridCol w="1290600"/>
                <a:gridCol w="1406520"/>
                <a:gridCol w="1405080"/>
                <a:gridCol w="1405080"/>
                <a:gridCol w="1404720"/>
                <a:gridCol w="1406520"/>
                <a:gridCol w="1405080"/>
              </a:tblGrid>
              <a:tr h="57312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95000"/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25" name="Rectangle 91"/>
          <p:cNvSpPr/>
          <p:nvPr/>
        </p:nvSpPr>
        <p:spPr>
          <a:xfrm>
            <a:off x="0" y="5705640"/>
            <a:ext cx="2030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95440" y="0"/>
          <a:ext cx="9072360" cy="7182000"/>
        </p:xfrm>
        <a:graphic>
          <a:graphicData uri="http://schemas.openxmlformats.org/drawingml/2006/table">
            <a:tbl>
              <a:tblPr/>
              <a:tblGrid>
                <a:gridCol w="1204920"/>
                <a:gridCol w="1311120"/>
                <a:gridCol w="1311120"/>
                <a:gridCol w="1311480"/>
                <a:gridCol w="1311120"/>
                <a:gridCol w="1311480"/>
                <a:gridCol w="1311120"/>
              </a:tblGrid>
              <a:tr h="717480"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3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 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 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63360"/>
            <a:ext cx="10080720" cy="755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56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d320"/>
                </a:solidFill>
                <a:latin typeface="Arial"/>
              </a:rPr>
              <a:t>ВОДОЁ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10080720" cy="755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учёные называют водоёмам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ой водоём называется озером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называют рекой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веди примеры искусственных водоёмо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к называются самые большие водоёмы на Земл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В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исток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устье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о такое русло реки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чему у истока река узкая, а в устье – широкая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ЗАДАНИЕ С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на с.15 ТПО(№30)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кажи на схеме: устье реки, исток реки, приток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кажи стрелкой направление течения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552600" indent="-55260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означь на схеме правый и левый берега рек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ЗЕРО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0" y="1355760"/>
            <a:ext cx="10080720" cy="62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РЕКА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216000" y="1403280"/>
            <a:ext cx="9864720" cy="61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ДЕКОРАТИВНЫЙ ПРУД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0" y="1547640"/>
            <a:ext cx="100807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Arial"/>
              </a:rPr>
              <a:t>НУГУШСКОЕ ВОДОХРАНИЛИЩ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0" y="1555920"/>
            <a:ext cx="1008072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60520" y="58680"/>
            <a:ext cx="8904240" cy="10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4617b"/>
                </a:solidFill>
                <a:latin typeface="Arial"/>
              </a:rPr>
              <a:t>ОКЕАН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503280" y="2177640"/>
            <a:ext cx="9075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0" y="1116000"/>
            <a:ext cx="100807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1"/>
          <p:cNvSpPr/>
          <p:nvPr/>
        </p:nvSpPr>
        <p:spPr>
          <a:xfrm>
            <a:off x="-81000" y="314280"/>
            <a:ext cx="10161720" cy="7105680"/>
          </a:xfrm>
          <a:prstGeom prst="pie">
            <a:avLst/>
          </a:prstGeom>
          <a:solidFill>
            <a:srgbClr val="d7ae85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"/>
          <p:cNvSpPr/>
          <p:nvPr/>
        </p:nvSpPr>
        <p:spPr>
          <a:xfrm>
            <a:off x="357120" y="208080"/>
            <a:ext cx="714600" cy="714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71720" y="684360"/>
            <a:ext cx="634680" cy="237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911160" y="922320"/>
            <a:ext cx="23832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"/>
          <p:cNvSpPr/>
          <p:nvPr/>
        </p:nvSpPr>
        <p:spPr>
          <a:xfrm flipV="1">
            <a:off x="1071720" y="205920"/>
            <a:ext cx="555480" cy="241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 flipH="1">
            <a:off x="593640" y="922320"/>
            <a:ext cx="82800" cy="396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7"/>
          <p:cNvSpPr/>
          <p:nvPr/>
        </p:nvSpPr>
        <p:spPr>
          <a:xfrm flipH="1">
            <a:off x="-1800" y="763560"/>
            <a:ext cx="439560" cy="47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8"/>
          <p:cNvSpPr/>
          <p:nvPr/>
        </p:nvSpPr>
        <p:spPr>
          <a:xfrm flipH="1">
            <a:off x="-1800" y="525600"/>
            <a:ext cx="360360" cy="79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29160" bIns="291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9"/>
          <p:cNvSpPr/>
          <p:nvPr/>
        </p:nvSpPr>
        <p:spPr>
          <a:xfrm flipH="1" flipV="1">
            <a:off x="-1800" y="-1800"/>
            <a:ext cx="439560" cy="37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0"/>
          <p:cNvSpPr/>
          <p:nvPr/>
        </p:nvSpPr>
        <p:spPr>
          <a:xfrm flipV="1">
            <a:off x="673200" y="-1440"/>
            <a:ext cx="3240" cy="210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1"/>
          <p:cNvSpPr/>
          <p:nvPr/>
        </p:nvSpPr>
        <p:spPr>
          <a:xfrm flipV="1">
            <a:off x="911160" y="-1800"/>
            <a:ext cx="238320" cy="290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"/>
          <p:cNvSpPr/>
          <p:nvPr/>
        </p:nvSpPr>
        <p:spPr>
          <a:xfrm>
            <a:off x="0" y="1487520"/>
            <a:ext cx="8402760" cy="607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13"/>
          <p:cNvSpPr/>
          <p:nvPr/>
        </p:nvSpPr>
        <p:spPr>
          <a:xfrm>
            <a:off x="6537240" y="314280"/>
            <a:ext cx="1424160" cy="121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174600" y="1795320"/>
            <a:ext cx="49118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ека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одный поток, текущий 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ыработанном им углублен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5"/>
          <p:cNvSpPr/>
          <p:nvPr/>
        </p:nvSpPr>
        <p:spPr>
          <a:xfrm flipH="1">
            <a:off x="2974680" y="5207040"/>
            <a:ext cx="1114200" cy="71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6"/>
          <p:cNvSpPr/>
          <p:nvPr/>
        </p:nvSpPr>
        <p:spPr>
          <a:xfrm rot="19620000">
            <a:off x="2610000" y="5122800"/>
            <a:ext cx="20019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Течение р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7500960" y="1398600"/>
            <a:ext cx="216000" cy="212760"/>
          </a:xfrm>
          <a:custGeom>
            <a:avLst/>
            <a:gdLst>
              <a:gd name="textAreaLeft" fmla="*/ 88920 w 216000"/>
              <a:gd name="textAreaRight" fmla="*/ 127080 w 216000"/>
              <a:gd name="textAreaTop" fmla="*/ 87480 h 212760"/>
              <a:gd name="textAreaBottom" fmla="*/ 125280 h 2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-12600" bIns="-12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7977240" y="1241280"/>
            <a:ext cx="1827000" cy="7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сток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о р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9"/>
          <p:cNvSpPr/>
          <p:nvPr/>
        </p:nvSpPr>
        <p:spPr>
          <a:xfrm flipH="1">
            <a:off x="7818480" y="1477800"/>
            <a:ext cx="479520" cy="3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2976480" y="5896080"/>
            <a:ext cx="76201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Усть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место впадения реки в океан, море, озеро, р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1"/>
          <p:cNvSpPr/>
          <p:nvPr/>
        </p:nvSpPr>
        <p:spPr>
          <a:xfrm>
            <a:off x="2341440" y="6081840"/>
            <a:ext cx="317520" cy="317520"/>
          </a:xfrm>
          <a:custGeom>
            <a:avLst/>
            <a:gdLst>
              <a:gd name="textAreaLeft" fmla="*/ 130680 w 317520"/>
              <a:gd name="textAreaRight" fmla="*/ 186840 w 317520"/>
              <a:gd name="textAreaTop" fmla="*/ 130680 h 317520"/>
              <a:gd name="textAreaBottom" fmla="*/ 186840 h 31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2"/>
          <p:cNvSpPr/>
          <p:nvPr/>
        </p:nvSpPr>
        <p:spPr>
          <a:xfrm flipH="1">
            <a:off x="2655720" y="6161040"/>
            <a:ext cx="401760" cy="795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3"/>
          <p:cNvSpPr/>
          <p:nvPr/>
        </p:nvSpPr>
        <p:spPr>
          <a:xfrm rot="16860000">
            <a:off x="5191560" y="3199680"/>
            <a:ext cx="1792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лавная р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4"/>
          <p:cNvSpPr/>
          <p:nvPr/>
        </p:nvSpPr>
        <p:spPr>
          <a:xfrm flipH="1" rot="18600000">
            <a:off x="3334320" y="3794760"/>
            <a:ext cx="1565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5"/>
          <p:cNvSpPr/>
          <p:nvPr/>
        </p:nvSpPr>
        <p:spPr>
          <a:xfrm rot="18900000">
            <a:off x="6878880" y="3883680"/>
            <a:ext cx="143028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и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27"/>
          <p:cNvSpPr/>
          <p:nvPr/>
        </p:nvSpPr>
        <p:spPr>
          <a:xfrm>
            <a:off x="2500200" y="1557360"/>
            <a:ext cx="5081760" cy="4603680"/>
          </a:xfrm>
          <a:prstGeom prst="pie">
            <a:avLst/>
          </a:prstGeom>
          <a:noFill/>
          <a:ln w="284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WordArt 30"/>
          <p:cNvSpPr txBox="1"/>
          <p:nvPr/>
        </p:nvSpPr>
        <p:spPr>
          <a:xfrm>
            <a:off x="1944720" y="366840"/>
            <a:ext cx="4842000" cy="206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996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Что такое река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594" name="Text Box 25"/>
          <p:cNvSpPr/>
          <p:nvPr/>
        </p:nvSpPr>
        <p:spPr>
          <a:xfrm rot="20541600">
            <a:off x="4097520" y="4081320"/>
            <a:ext cx="184176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а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5"/>
          <p:cNvSpPr/>
          <p:nvPr/>
        </p:nvSpPr>
        <p:spPr>
          <a:xfrm rot="20541600">
            <a:off x="3555000" y="5389920"/>
            <a:ext cx="184140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108728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евый бер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41:24Z</dcterms:created>
  <dc:creator/>
  <dc:description/>
  <dc:language>en-US</dc:language>
  <cp:lastModifiedBy>*****</cp:lastModifiedBy>
  <dcterms:modified xsi:type="dcterms:W3CDTF">2011-10-29T04:33:39Z</dcterms:modified>
  <cp:revision>6</cp:revision>
  <dc:subject/>
  <dc:title>Слайд 1</dc:title>
</cp:coreProperties>
</file>